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8AE-9C31-4BEB-8D76-A1349704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0CFD-CDFC-45BD-8BA3-F388A22C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24D-9CC8-496C-AE57-0CD84B732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AAC-2BA1-4EBD-80DC-589FF8BB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7CF5-AF55-4C74-BE00-112E1FBD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355-62A1-4498-BC14-1B23AFED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731-5E92-4505-B676-81C66D65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7E9-9FC7-4865-B957-F0C48EF6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7B2-E19F-46CF-955A-695E501D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lded Age Economics and Politics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35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6"/>
          <p:cNvSpPr/>
          <p:nvPr/>
        </p:nvSpPr>
        <p:spPr>
          <a:xfrm>
            <a:off x="990720" y="2057400"/>
            <a:ext cx="6781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publicans favored tariffs on imported goods. Tariffs supported American industry, but Democrats claimed that they increased consumer prices and made it harder for farmers to sell their products abroad.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etary policy disputes centered on whether or not to maintain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old standard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re gold is the sole basis of the nation’s curre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838080" y="914400"/>
            <a:ext cx="66294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debates focused on tariffs and monetary policy during the Gilded 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5"/>
          <p:cNvSpPr/>
          <p:nvPr/>
        </p:nvSpPr>
        <p:spPr>
          <a:xfrm flipH="1" rot="5400000">
            <a:off x="1942200" y="2018520"/>
            <a:ext cx="1676520" cy="3429000"/>
          </a:xfrm>
          <a:prstGeom prst="upArrowCallout">
            <a:avLst>
              <a:gd name="adj1" fmla="val 25002"/>
              <a:gd name="adj2" fmla="val 25000"/>
              <a:gd name="adj3" fmla="val 34088"/>
              <a:gd name="adj4" fmla="val 54075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838080" y="12952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oinage Act of 1873 reversed the policy of having the government issue both gold and silver coi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1168560" y="299736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Verdana"/>
              </a:rPr>
              <a:t>Some people wanted to use only gold as mone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28"/>
          <p:cNvGrpSpPr/>
          <p:nvPr/>
        </p:nvGrpSpPr>
        <p:grpSpPr>
          <a:xfrm>
            <a:off x="4494960" y="2895480"/>
            <a:ext cx="3620520" cy="1676520"/>
            <a:chOff x="4494960" y="2895480"/>
            <a:chExt cx="3620520" cy="1676520"/>
          </a:xfrm>
        </p:grpSpPr>
        <p:sp>
          <p:nvSpPr>
            <p:cNvPr id="85" name="AutoShape 27"/>
            <p:cNvSpPr/>
            <p:nvPr/>
          </p:nvSpPr>
          <p:spPr>
            <a:xfrm flipH="1" rot="16200000">
              <a:off x="5370840" y="2019240"/>
              <a:ext cx="1676520" cy="3429000"/>
            </a:xfrm>
            <a:prstGeom prst="upArrowCallout">
              <a:avLst>
                <a:gd name="adj1" fmla="val 25002"/>
                <a:gd name="adj2" fmla="val 25000"/>
                <a:gd name="adj3" fmla="val 34088"/>
                <a:gd name="adj4" fmla="val 54075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5524560" y="2997360"/>
              <a:ext cx="25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Verdana"/>
                </a:rPr>
                <a:t>Some wanted to use both gold and silver.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Text Box 26"/>
          <p:cNvSpPr/>
          <p:nvPr/>
        </p:nvSpPr>
        <p:spPr>
          <a:xfrm>
            <a:off x="838080" y="495288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nkers were worried silver would impact trade and undermine the economy. Farmers hoped it would create inflation and raise their inc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6873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corruption affected national politics in the 1870s and 188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 civil service reform during the 1870s and 188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importance of economic issues in the politics of the Gilded 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2012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poils syste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ystem in which politicians awarded government jobs to loyal party workers with little regard for their qual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ivil serv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overnment departments and their nonelected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endleton Civil Servic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aw that created a civil service system for the federal government in an attempt to hire employees on a merit system rather than on a spoils sys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old standar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gold as the basis of the nation’s curren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1104840" y="16257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y did the political structure change during the Gilded Age?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117440" y="2666880"/>
            <a:ext cx="7112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gress passed few laws between 1877 and 1900. It was an era marked by inaction and political corru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Gilded Age raised questions about whether or not democracy could succeed in an era dominated by powerful industrial corporations and men of great wealt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5" descr="HSUS09_EQ_logoSmall"/>
          <p:cNvPicPr/>
          <p:nvPr/>
        </p:nvPicPr>
        <p:blipFill>
          <a:blip r:embed="rId1"/>
          <a:stretch/>
        </p:blipFill>
        <p:spPr>
          <a:xfrm>
            <a:off x="469800" y="1752480"/>
            <a:ext cx="55908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8"/>
          <p:cNvSpPr/>
          <p:nvPr/>
        </p:nvSpPr>
        <p:spPr>
          <a:xfrm flipH="1" rot="5400000">
            <a:off x="1789920" y="799560"/>
            <a:ext cx="2133720" cy="4038840"/>
          </a:xfrm>
          <a:prstGeom prst="upArrowCallout">
            <a:avLst>
              <a:gd name="adj1" fmla="val 25002"/>
              <a:gd name="adj2" fmla="val 25000"/>
              <a:gd name="adj3" fmla="val 31548"/>
              <a:gd name="adj4" fmla="val 54075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30"/>
          <p:cNvSpPr/>
          <p:nvPr/>
        </p:nvSpPr>
        <p:spPr>
          <a:xfrm>
            <a:off x="4876920" y="1523880"/>
            <a:ext cx="3581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ither political party achieved control of both the White House and Congres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more than two years in a r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idents during the Gilded Age were elected only by slim margi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made it difficult to pass new la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65160" y="1854360"/>
            <a:ext cx="2743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ween 1877 and 1897, party loyalties were evenly divi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5105520" y="1981080"/>
            <a:ext cx="35049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rruption plagued national politic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many officials accepted brib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toonists such as Thomas Nast worked to expose corru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193040" y="571500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t cartoon of “Boss” Tw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6080" y="1523880"/>
            <a:ext cx="33559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28"/>
          <p:cNvSpPr/>
          <p:nvPr/>
        </p:nvSpPr>
        <p:spPr>
          <a:xfrm>
            <a:off x="838080" y="1752480"/>
            <a:ext cx="7772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spoils system was the glue of th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itical par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130"/>
          <p:cNvSpPr/>
          <p:nvPr/>
        </p:nvSpPr>
        <p:spPr>
          <a:xfrm>
            <a:off x="6019920" y="3111480"/>
            <a:ext cx="236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system made the political parties extremely powerfu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133"/>
          <p:cNvSpPr/>
          <p:nvPr/>
        </p:nvSpPr>
        <p:spPr>
          <a:xfrm flipH="1" rot="5400000">
            <a:off x="2056320" y="1676160"/>
            <a:ext cx="2362320" cy="4800600"/>
          </a:xfrm>
          <a:prstGeom prst="upArrowCallout">
            <a:avLst>
              <a:gd name="adj1" fmla="val 24067"/>
              <a:gd name="adj2" fmla="val 23120"/>
              <a:gd name="adj3" fmla="val 23850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34"/>
          <p:cNvSpPr/>
          <p:nvPr/>
        </p:nvSpPr>
        <p:spPr>
          <a:xfrm>
            <a:off x="952560" y="2997360"/>
            <a:ext cx="34290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poils syst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party supporters received governm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bs regardless of their qualifications, shifted power to a fe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5"/>
          <p:cNvSpPr/>
          <p:nvPr/>
        </p:nvSpPr>
        <p:spPr>
          <a:xfrm flipH="1" rot="5400000">
            <a:off x="1942200" y="1866600"/>
            <a:ext cx="1295280" cy="3505320"/>
          </a:xfrm>
          <a:prstGeom prst="upArrowCallout">
            <a:avLst>
              <a:gd name="adj1" fmla="val 24762"/>
              <a:gd name="adj2" fmla="val 28926"/>
              <a:gd name="adj3" fmla="val 33214"/>
              <a:gd name="adj4" fmla="val 45453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838080" y="17524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 movement arose to promot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ivil serv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refor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1015920" y="3073320"/>
            <a:ext cx="248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ding the spoils system was difficul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4648320" y="2819520"/>
            <a:ext cx="3809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finally happened, in part, because President James Garfield was assassinated by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 who believed the Republican Party owed him a jo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9"/>
          <p:cNvSpPr/>
          <p:nvPr/>
        </p:nvSpPr>
        <p:spPr>
          <a:xfrm flipH="1" rot="10792800">
            <a:off x="1060200" y="1747080"/>
            <a:ext cx="6933960" cy="1832040"/>
          </a:xfrm>
          <a:prstGeom prst="upArrowCallout">
            <a:avLst>
              <a:gd name="adj1" fmla="val 47069"/>
              <a:gd name="adj2" fmla="val 4002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155600" y="185436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ster A. Arthur became President and supported 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927000" y="382284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83, he signed into law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endleton Civil Service Act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ich established a merit-based system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overnment employ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imon Tuchman</cp:lastModifiedBy>
  <cp:lastPrinted>2011-11-30T16:59:33Z</cp:lastPrinted>
  <dcterms:modified xsi:type="dcterms:W3CDTF">2012-02-20T21:46:52Z</dcterms:modified>
  <cp:revision>191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